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ABE-7D12-4320-B339-03F4BAE1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0A0-EA1B-44EF-92F1-8BF4527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84D-1C0F-45E7-AA6F-91DCBDFA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136-D633-44D8-97F7-299A48FB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115F-D0B8-442F-8E10-8C39B8CA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411-24D1-46C3-9464-64D7DC9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557F-B2EA-4B28-B691-26F75DC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02F-9597-4612-B64F-2826F4A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9F3D-C96F-4FFB-B757-FF40CA5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E282-3129-4687-8F2A-CC79FB0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99A4-9B4A-411D-92FC-8C50A1D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ED3-57C5-4288-82DE-DFA0B791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AB98-F560-43BA-B173-179877B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7D0B-FF7E-4597-87E5-543D5FD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BA0B-D9C8-4A87-A3F5-DE0A2369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D017-22C0-431C-9FB2-0CD7E81E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67A8-C83F-4D6E-A34C-2ABEA9BA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D60-C04B-4F45-8AD5-6E31575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233-C6C9-4D14-A449-9D25340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309-6B58-41FD-9A6D-C46E9A4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F6F-4427-4401-ADCC-E69FFE6E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1E3-F8E0-4FA5-B2CF-7175725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B24-44A5-4508-800E-CEE8FB43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0A5-21A8-441F-A9E8-A133939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4B6-A8A7-4EE2-BEA1-DD6965D43A48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C207-F343-4E6C-AA27-51D8BAF6A28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ep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ep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epppt3.3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638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 靖大</cp:lastModifiedBy>
  <dcterms:modified xsi:type="dcterms:W3CDTF">2004-11-06T15:56:21Z</dcterms:modified>
  <cp:revision>54</cp:revision>
  <dc:subject/>
  <dc:title>PowerPoint スライドからの HTML 作成支援ツール epppt</dc:title>
</cp:coreProperties>
</file>