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D1E-ACFC-4C99-BAA3-DC30AE85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DB4-CC1C-41CB-9AC7-A3B0542C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1CE-27CD-434B-B567-DA8F9E7A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E2D-3509-433D-BE49-91BBEA96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89BFF-F3F8-408D-AECB-712DDE94C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6CF3-875C-4BF9-86C0-50C38A5B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5C60-1485-4C11-ACAE-3585EFED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878A-31E0-4E8E-B194-526FE308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8996-4054-442C-AC04-CF18B488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DDFC-3861-47B7-992D-DB221529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F752-FE2B-43AB-96A9-20DB77AA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2D5-37B5-4EB1-A47A-70AD4E98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7A8F-2315-4585-A4B1-279891FA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E1F1-50C3-4719-A481-9B53374C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0648-2F4C-4904-AE37-A1130183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5337-9F83-432E-AD52-3DC87AAF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032B-99AD-4A8C-B886-34AEF2D5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865-D7F5-4C05-9052-5C9DBA86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AC23-6003-451B-91BB-1279FDF2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66D-B1B9-4E48-97DD-BF824234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4BD-D142-4446-9BC6-26CECDF3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508-E8AC-4949-A63B-240CC8F6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1FD3-B1ED-4D09-8C5A-2903F139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F600-A60F-473D-AC34-8C781566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E5F4-6AA0-42DF-AC0C-167931AA16A1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9717-1D93-42DF-98DC-BF6BC392F660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orikawa Yasuh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4 EPnetFan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netFaN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9999ff"/>
                </a:solidFill>
                <a:latin typeface="Tahoma"/>
              </a:rPr>
              <a:t>Earth and Planetaly science network FaNclu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ep.sci.hokudai.ac.jp/~epnetfa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E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netFaN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作成した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ep.sci.hokudai.ac.jp/~morikawa/perl/epppt/epppt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移動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パスを通してもいいけど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98600" y="4586400"/>
            <a:ext cx="50878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eppp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5689440"/>
            <a:ext cx="65815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epppt/epppt.pl /usr/local/b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p2h.ex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doc/mate/detail.html)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soibeans/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OI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WIDE University, School of Internet)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tp://www.soi.wide.ad.jp/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gt;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て開発された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werpoin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スライド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gif, jpeg, png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また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変換する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ツール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Windows98/2000/XP + Office2000/XP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ep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用い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pt (PowerPoint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ァイル から画像ファイルを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640x48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800x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00x15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40x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イトル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title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34120"/>
            <a:ext cx="5333760" cy="131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3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資源を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画像、サムネイル用画像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等のあるディレクトリ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525780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style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thumbnail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サムネイルの列の数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thumbnail_col_num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出来上が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672640" y="25909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pppt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487656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Morikawa Yasuhiro</cp:lastModifiedBy>
  <dcterms:modified xsi:type="dcterms:W3CDTF">2004-02-03T10:29:16Z</dcterms:modified>
  <cp:revision>34</cp:revision>
  <dc:subject/>
  <dc:title>PowerPoint スライドからの HTML 作成支援ツール epppt</dc:title>
</cp:coreProperties>
</file>