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02C-F287-42D1-9CEA-91917C37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173-9BF2-481D-93DB-2DAC40E9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87C-6F4E-444E-BAA9-AB971CA0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A0D-58A3-449F-8406-4AAE766B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59EB-DE09-4C29-B9A6-C2CE1550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EA29-A576-41E0-81F2-5D6FC560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39F1-96BC-44C8-B75F-1BA2B479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F368-ADD7-4ED1-83A7-6CEE5721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E63E-91B1-472A-B788-B2BDB274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8400-0E73-4E66-BBAE-F53EA24A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EB0A-2F39-4DCD-A188-35280F16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9A1-70F2-47DF-9D61-A8E8C6BE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5C42-0FAC-4DD6-BEDF-3618242C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6E11-889E-469F-8476-889BBCAE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BA3B-42A8-441D-86D7-C097142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26E4-0C71-4B8F-BC0A-0CACD389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D598-83DD-4B02-BD3A-A4A01295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A9F-9636-45FE-966B-47C48553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C131-A719-4E6F-BFB9-725DC8E6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FAF-0E67-425D-B000-7E3E1384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716-B26F-4938-B06C-224166DC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0E9-7B5B-47EB-8531-B5B2032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26D-ED84-4176-A9E2-7191E88B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49EA-E0AA-4E60-AB1D-9D47C89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6453-75A5-42E9-8FD4-14946EF72DCE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AA81-6408-40A0-8F1A-854177F2F581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p2h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doc/mate/detail.html)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soibeans/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OI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WIDE University, School of Internet)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tp://www.soi.wide.ad.jp/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gt;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て開発された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werpoin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スライド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gif, jpeg, png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また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変換する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ツール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Windows98/2000/XP + Office2000/XP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用い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pt (PowerPoint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ァイル から画像ファイルを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640x48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800x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00x15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40x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トル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itle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4120"/>
            <a:ext cx="5333760" cy="131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3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資源を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画像、サムネイル用画像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等のあるディレクトリ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525780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style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thumbnail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サムネイルの列の数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thumbnail_col_num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出来上が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672640" y="25909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pppt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8765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Morikawa Yasuhiro</cp:lastModifiedBy>
  <dcterms:modified xsi:type="dcterms:W3CDTF">2004-02-03T10:29:16Z</dcterms:modified>
  <cp:revision>34</cp:revision>
  <dc:subject/>
  <dc:title>PowerPoint スライドからの HTML 作成支援ツール epppt</dc:title>
</cp:coreProperties>
</file>