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752F3-489B-419B-975B-7801EB63AE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38C5E-34F6-4972-B734-416ADD4BA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4583C-F1C4-4E1C-8433-4ACD9550C7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6209-D306-4DFD-8B40-C9B59B1885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FC420-85F5-4E66-9C52-E0C3649F9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26696B-EA15-4F2D-88E0-6C3B414D8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D57C4-1DE6-4709-904E-D69AEAD330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5097E-61E9-44EB-98D9-B445B8E4D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DE2E0-4F3F-45C7-940F-ACC651488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81FD80-6F41-4793-B304-2D0967FBD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A5375A-49A6-4177-BEFF-7EF37CA6B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23B9-72BE-43CE-942A-B899B1114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BD5C2-43D6-4D8E-A3C5-FD1579013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54D96-4DB3-435D-B902-FD99DD42BC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BFAC8-C441-4D40-B4EC-A72719C71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842B2-98FF-4751-A46B-1DDDC7487B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D18DD-B5B9-4299-8263-4DA006D26F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C161C-FEAE-4FB0-B369-64F916E4B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6FE53-C2A0-4CAF-AAAA-D383CD075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6116C-8B2B-4536-9F60-8B586A06B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830BA-A968-4A66-9AE1-BC28839D9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07DB5-680B-4A6C-A23F-1B6C7B37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0E357-6B9D-4323-AD78-59E7CD621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0BFD-6DB9-46F6-AACE-E38B57698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B6FAC-9D0B-48E4-8510-513543F78BBE}" type="slidenum">
              <a:rPr b="0" lang="ja-JP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AD3AD2-2B73-4CF0-9233-67DED16BBC5F}" type="slidenum">
              <a:rPr b="0" lang="ja-JP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imagemagick.org/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60020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スライドの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br>
              <a:rPr sz="2800"/>
            </a:br>
            <a:r>
              <a:rPr b="0" lang="ja-JP" sz="5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333399"/>
                </a:solidFill>
                <a:latin typeface="Tahoma"/>
              </a:rPr>
              <a:t>version </a:t>
            </a:r>
            <a:r>
              <a:rPr b="0" lang="ja-JP" sz="3600" spc="-1" strike="noStrike">
                <a:solidFill>
                  <a:srgbClr val="333399"/>
                </a:solidFill>
                <a:latin typeface="Tahoma"/>
              </a:rPr>
              <a:t>1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762120" y="3885840"/>
            <a:ext cx="76960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Yasuhiro Morikaw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pyright © 2005 GFD Dennou Club. All rights reserv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GFD Dennou Cl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ＭＳ ゴシック"/>
                <a:ea typeface="ＭＳ ゴシック"/>
              </a:rPr>
              <a:t>&lt;http://www.gfd-dennou.org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タイトル、メニューを後で変更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タイトル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src/title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内のタイトルを変更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メニューを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age 00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などから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目次を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enu.tx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に書き込む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一応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形式の埋め込みは可能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8" name=""/>
          <p:cNvSpPr/>
          <p:nvPr/>
        </p:nvSpPr>
        <p:spPr>
          <a:xfrm>
            <a:off x="2209680" y="4724280"/>
            <a:ext cx="647712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1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PowerPoint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の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HTML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化支援ツール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0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dcppt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とは？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                             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012: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謝辞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or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参考資料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?? 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【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&lt;a href="http://www…"&gt;dcreal&lt;/a&gt;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、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...</a:t>
            </a:r>
            <a:r>
              <a:rPr b="0" lang="ja-JP" sz="16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039920" y="297180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20184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スタイルの変更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まずは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.pl -x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として「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m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」で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Config.dc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編集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文字コード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jpc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スタイル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tyle_mode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文字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textcolo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、背景色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$style_bgcolor .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サイズ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$slidesize , $thumbsize ,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などなど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3" name=""/>
          <p:cNvSpPr/>
          <p:nvPr/>
        </p:nvSpPr>
        <p:spPr>
          <a:xfrm>
            <a:off x="2064960" y="2895480"/>
            <a:ext cx="5032800" cy="13107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16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r>
              <a:rPr b="0" lang="ja-JP" sz="16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322440" y="630864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凝りたい方へ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440"/>
            <a:ext cx="77724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始めのページはサムネイルじゃなく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1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ページ目に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メニューのページを文字にした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Config.dcppt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の以下の部分を変更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34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テキスト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画像メニューいらない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再度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4084560" y="6324480"/>
            <a:ext cx="2162160" cy="39888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000" spc="-1" strike="noStrike">
                <a:solidFill>
                  <a:srgbClr val="ffff00"/>
                </a:solidFill>
                <a:latin typeface="Lucida Console"/>
              </a:rPr>
              <a:t>dcppt.pl -q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133720" y="3200400"/>
            <a:ext cx="5333760" cy="115956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left  = "$menufile"; 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left  = "$menutxtfile";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メニュ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右ページ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$defaultright = "$thumbnail_file";    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サムネイ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defaultright = "$htmldir/001.html";  # 1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ページ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962520" y="5105520"/>
            <a:ext cx="4267080" cy="946440"/>
          </a:xfrm>
          <a:prstGeom prst="rect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1c1c1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イメージ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時は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#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メニューファイル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(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テキスト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) 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要らない方は 空に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  <a:ea typeface="ＭＳ ゴシック"/>
              </a:rPr>
              <a:t>$menutxtfile = ""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参考資料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epp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(http://www.ep.sci.hokudai.ac.jp/~morikawa/perl/epppt/SIGEN_PUB.htm)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前身だったツール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real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ja-JP" sz="2000" spc="-1" strike="noStrike">
                <a:solidFill>
                  <a:srgbClr val="000000"/>
                </a:solidFill>
                <a:latin typeface="Tahoma"/>
              </a:rPr>
              <a:t>(http://www.gfd-dennou.org/arch/cc-env/dcreal/SIGEN.ht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表示の画面の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hoto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(http://www.ep.sci.hokudai.ac.jp/~totera/official/program/dcphoto/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サムネイル表示部分のソースやいろいろなアイディアを参考にさせて頂きました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dcppt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とは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838080" y="2017800"/>
            <a:ext cx="7772400" cy="468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GFD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D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ennou 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C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lub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にてメンテナンスされている、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wer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P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oin</a:t>
            </a:r>
            <a:r>
              <a:rPr b="1" lang="ja-JP" sz="3600" spc="-1" strike="noStrike">
                <a:solidFill>
                  <a:srgbClr val="ff3300"/>
                </a:solidFill>
                <a:latin typeface="Tahoma"/>
              </a:rPr>
              <a:t>t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スライドの 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HTML</a:t>
            </a:r>
            <a:r>
              <a:rPr b="0" lang="ja-JP" sz="3600" spc="-1" strike="noStrike">
                <a:solidFill>
                  <a:srgbClr val="000000"/>
                </a:solidFill>
                <a:latin typeface="Tahoma"/>
              </a:rPr>
              <a:t>化支援ツール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特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p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を誰もが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(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持ってない人も、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じゃ無い人も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見れるような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M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形式にす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限らず、画像化されているものをサムネイル化することが可能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動作環境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以下の環境で動作を確認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Debian GNU/Linux 3.0, 3.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たぶん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Linu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や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UNIX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なら動くはず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は自信がありません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入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&amp;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インストール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1865160"/>
            <a:ext cx="7772400" cy="484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入手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http://www.gfd-dennou.org/library/cc-env/dcppt/dcppt_current.tg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インストール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展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システムへインストール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302560" y="4491000"/>
            <a:ext cx="6794640" cy="520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800" spc="-1" strike="noStrike">
                <a:solidFill>
                  <a:srgbClr val="ffff00"/>
                </a:solidFill>
                <a:latin typeface="Lucida Console"/>
              </a:rPr>
              <a:t>tar xvfz dcppt_current.tar.gz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297160" y="5594400"/>
            <a:ext cx="2923920" cy="11912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su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cp dcppt-***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Lucida Console"/>
              </a:rPr>
              <a:t># </a:t>
            </a:r>
            <a:r>
              <a:rPr b="0" lang="ja-JP" sz="2400" spc="-1" strike="noStrike">
                <a:solidFill>
                  <a:srgbClr val="ffff00"/>
                </a:solidFill>
                <a:latin typeface="Lucida Console"/>
              </a:rPr>
              <a:t>make instal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596920" y="6035760"/>
            <a:ext cx="311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/usr/local/bin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以下に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←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インストールされ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依存する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Tool 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群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010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dcppt.pl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は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version 5.6.1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で動作確認済み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ahoma"/>
                <a:ea typeface="ＭＳ ゴシック"/>
              </a:rPr>
              <a:t>※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へのパスは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となっているので、システムによっては変更すること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(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エディタで直接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dcppt.p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頭の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#!/usr/bin/perl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変更する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  <a:ea typeface="ＭＳ ゴシック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Tahoma"/>
                <a:ea typeface="ＭＳ ゴシック"/>
              </a:rPr>
              <a:t>jcode.pl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の日本語文字コード用ライブラリ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 u="sng">
                <a:solidFill>
                  <a:srgbClr val="ff0000"/>
                </a:solidFill>
                <a:uFillTx/>
                <a:latin typeface="Tahoma"/>
                <a:ea typeface="ＭＳ ゴシック"/>
                <a:hlinkClick r:id="rId1"/>
              </a:rPr>
              <a:t>ImageMagick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画像サイズ変換に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conver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  <a:ea typeface="ＭＳ ゴシック"/>
              </a:rPr>
              <a:t>を利用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1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934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スライドを画像ファイルとして保存する。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の場合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PowerPoint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「ファイル」→「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ページで保存」 として、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ファイルの種類」に </a:t>
            </a:r>
            <a:r>
              <a:rPr b="1" lang="ja-JP" sz="2400" spc="-1" strike="noStrike">
                <a:solidFill>
                  <a:srgbClr val="000000"/>
                </a:solidFill>
                <a:latin typeface="Tahoma"/>
              </a:rPr>
              <a:t>gif , jpeg , png </a:t>
            </a: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のどれかを選択す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Tahoma"/>
              </a:rPr>
              <a:t>「プレゼンテーションのスライドを全てエクスポートしますか？」を「はい」と答える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040" y="2017800"/>
            <a:ext cx="8040600" cy="42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作成した画像を、ディレクトリ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フォルダ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)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ごと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er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が動作するマシンへ移動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1.png ,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スライド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2.png , 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ディレクトリ名変更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名前を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に変更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dcppt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実行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ディレクトリのある場所で実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"/>
          <p:cNvSpPr/>
          <p:nvPr/>
        </p:nvSpPr>
        <p:spPr>
          <a:xfrm>
            <a:off x="2824920" y="6126120"/>
            <a:ext cx="335088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dcppt.pl -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333880" y="4495680"/>
            <a:ext cx="4520520" cy="5814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Lucida Console"/>
              </a:rPr>
              <a:t>$ 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mv &lt;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ディレクトリ</a:t>
            </a:r>
            <a:r>
              <a:rPr b="0" lang="ja-JP" sz="3200" spc="-1" strike="noStrike">
                <a:solidFill>
                  <a:srgbClr val="ffff00"/>
                </a:solidFill>
                <a:latin typeface="Lucida Console"/>
              </a:rPr>
              <a:t>&gt; sr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作業概要 【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】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914040" y="2017440"/>
            <a:ext cx="8040600" cy="484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こんなことを聞かれるけど、そのまま 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タイトル入力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0">
              <a:spcBef>
                <a:spcPts val="451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出力出力</a:t>
            </a:r>
            <a:r>
              <a:rPr b="0" lang="ja-JP" sz="2800" spc="-1" strike="noStrike">
                <a:solidFill>
                  <a:srgbClr val="000000"/>
                </a:solidFill>
                <a:latin typeface="Tahoma"/>
              </a:rPr>
              <a:t>..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"/>
          <p:cNvSpPr/>
          <p:nvPr/>
        </p:nvSpPr>
        <p:spPr>
          <a:xfrm>
            <a:off x="1756800" y="2514600"/>
            <a:ext cx="6246000" cy="161856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設定ファイルである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が見当たりません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1. 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デフォルトの設定で処理をするなら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y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2.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処理を中断するなら                   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n"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3. Config.dcppt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テンプレートを出力するなら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"m"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を入力してください </a:t>
            </a:r>
            <a:r>
              <a:rPr b="0" lang="ja-JP" sz="20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[Y/n/m] 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78360" y="4648320"/>
            <a:ext cx="5200200" cy="64260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タイトルを記入して下さい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</a:t>
            </a:r>
            <a:r>
              <a:rPr b="0" lang="ja-JP" sz="18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Title []: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スライドの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HTML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化支援ツール </a:t>
            </a:r>
            <a:r>
              <a:rPr b="1" lang="ja-JP" sz="1800" spc="-1" strike="noStrike">
                <a:solidFill>
                  <a:srgbClr val="ffff00"/>
                </a:solidFill>
                <a:latin typeface="ＭＳ ゴシック"/>
                <a:ea typeface="ＭＳ ゴシック"/>
              </a:rPr>
              <a:t>dcpp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431720" y="5791320"/>
            <a:ext cx="6795000" cy="946440"/>
          </a:xfrm>
          <a:prstGeom prst="rect">
            <a:avLst/>
          </a:prstGeom>
          <a:solidFill>
            <a:srgbClr val="000000"/>
          </a:solidFill>
          <a:ln w="0">
            <a:noFill/>
          </a:ln>
          <a:effectLst>
            <a:outerShdw dist="107932" dir="2700000" blurRad="0" rotWithShape="0">
              <a:srgbClr val="1c1c1c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        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HTML Files ...0, 1, 2, 3, 4, 5, 6, 7, 8, 9, 10, 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reating Thumbnail File ...don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ＭＳ ゴシック"/>
                <a:ea typeface="ＭＳ ゴシック"/>
              </a:rPr>
              <a:t>Comple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333399"/>
                </a:solidFill>
                <a:latin typeface="Tahoma"/>
              </a:rPr>
              <a:t>出来上がり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src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隣に出来る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pub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の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index.html </a:t>
            </a: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を開くとこんな感じ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895400" y="3124080"/>
            <a:ext cx="6562800" cy="36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03T07:46:22Z</dcterms:created>
  <dc:creator>Morikawa Yasuhiro</dc:creator>
  <dc:description/>
  <dc:language>en-US</dc:language>
  <cp:lastModifiedBy>森川　靖大</cp:lastModifiedBy>
  <dcterms:modified xsi:type="dcterms:W3CDTF">2005-08-01T07:35:21Z</dcterms:modified>
  <cp:revision>59</cp:revision>
  <dc:subject/>
  <dc:title>PowerPoint スライドからの HTML 作成支援ツール epppt</dc:title>
</cp:coreProperties>
</file>