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D6CF-B5A7-4944-92C9-4EB372F41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23AE-65F3-4D4C-92DD-62843B1D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6450-3B39-4DFB-88F0-27E55EB17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064F-1457-45D3-B42F-03C637C70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D82C-91D7-48FE-B277-10B322420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97C7-A631-47B9-870C-FE82B32E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1660-F71B-4774-8C11-F1C842F5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87B9-E3CD-47AE-B4FC-C33A930F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9BAC-7FCE-49D0-951B-54B85BC5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7C53-5312-47F4-8C15-6857E3B2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9846F-1EF6-4B51-BAC9-CCD79626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F11F-21A0-4AF2-BB5E-737A9691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FCE0-83F4-4A49-99DA-68805D47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CEEB-535A-4AF5-8BEA-A101DAB9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564ED-6823-43F4-A556-43375108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91D5-5B76-47D6-8573-39C2A4511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1EC6-A74E-48DD-9ED9-A54AEB370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23EB-D456-4954-B196-ADA200A7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C8A1-2B60-42F9-943D-9E7A842D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707E-2B26-4395-BBDF-6CF37D00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F1C9-1C78-44D8-8297-9E09FA5A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59EA-887F-417A-AAFB-8D32C532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7E9A-577C-4F23-8021-5E1C5349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81EB-4782-4063-88E3-0C9645F6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662E-54A5-421A-AC39-512A1FE7CC1D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5C52-ACC4-40EA-B780-EA4C49D6C28D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magemagick.org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スライドの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br>
              <a:rPr sz="2800"/>
            </a:br>
            <a:r>
              <a:rPr b="0" lang="ja-JP" sz="5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version </a:t>
            </a:r>
            <a:r>
              <a:rPr b="0" lang="ja-JP" sz="36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2120" y="3885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Yasuhiro Morikaw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pyright © 2005 GFD Dennou Club. All rights reser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GFD Dennou Cl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http://www.gfd-dennou.org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タイトル、メニューを後で変更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タイトル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rc/title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内のタイトルを変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メニューを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age 00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などから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目次を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enu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に書き込む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一応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形式の埋め込みは可能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724280"/>
            <a:ext cx="647712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1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の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とは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                             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1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謝辞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or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参考資料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【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&lt;a href="http://www…"&gt;dcreal&lt;/a&gt;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...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9920" y="297180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184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スタイルの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まずは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.pl -x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として「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」で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onfig.dc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編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文字コード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jp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スタイル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tyle_mode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文字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textcolor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、背景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bgcolor 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サイズ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lidesize , $thumbsize 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などなど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064960" y="2895480"/>
            <a:ext cx="5032800" cy="1310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r>
              <a:rPr b="0" lang="ja-JP" sz="16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22440" y="630864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始めのページはサムネイルじゃなく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ページ目に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メニューのページを文字にした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以下の部分を変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テキスト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08456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3200400"/>
            <a:ext cx="5333760" cy="1159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left  = "$menufile"; 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left  = "$menutxtfile";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右ペー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right = "$thumbnail_file";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サムネイ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right = "$htmldir/001.html";  # 1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ページ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5105520"/>
            <a:ext cx="4267080" cy="946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時は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方は 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txt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参考資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pp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http://www.ep.sci.hokudai.ac.jp/~morikawa/perl/epppt/SIGEN_PUB.ht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前身だったツー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re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http://www.gfd-dennou.org/arch/cc-env/dcreal/SIGEN.ht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表示の画面の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hoto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http://www.ep.sci.hokudai.ac.jp/~totera/official/program/dcphoto/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表示部分のソースやいろいろな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とは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GFD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ennou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lub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にてメンテナンスされている、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wer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in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スライドの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化支援ツール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特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を誰もが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持ってない人も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じゃ無い人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見れるような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形式にす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限らず、画像化されているものをサムネイル化することが可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動作環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以下の環境で動作を確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ebian GNU/Linux 3.0, 3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たぶん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Linu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や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なら動くは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は自信がありませ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入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インストー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86516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入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tp://www.gfd-dennou.org/library/cc-env/dcppt/dcppt_current.t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インストー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展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システムへインストール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302560" y="4491000"/>
            <a:ext cx="67946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800" spc="-1" strike="noStrike">
                <a:solidFill>
                  <a:srgbClr val="ffff00"/>
                </a:solidFill>
                <a:latin typeface="Lucida Console"/>
              </a:rPr>
              <a:t>tar xvfz dcppt_current.tar.g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97160" y="5594400"/>
            <a:ext cx="29239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cp dcppt-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#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make inst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96920" y="6035760"/>
            <a:ext cx="31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/usr/local/bin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以下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インストールさ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依存す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ool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0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dcppt.p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version 5.6.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動作確認済み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ahoma"/>
                <a:ea typeface="ＭＳ ゴシック"/>
              </a:rPr>
              <a:t>※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へのパス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なっているので、システムによっては変更すること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ディタで直接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頭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!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変更する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code.p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日本語文字コード用ライブラ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0000"/>
                </a:solidFill>
                <a:uFillTx/>
                <a:latin typeface="Tahoma"/>
                <a:ea typeface="ＭＳ ゴシック"/>
                <a:hlinkClick r:id="rId1"/>
              </a:rPr>
              <a:t>ImageMagi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画像サイズ変換に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onver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利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934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スライドを画像ファイルとして保存す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場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「ファイル」→「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ページで保存」 として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ファイルの種類」に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gif , jpeg , png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どれかを選択す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プレゼンテーションのスライドを全てエクスポートしますか？」を「はい」と答え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作成した画像を、ディレクトリ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フォルダ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ごと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が動作するマシンへ移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1.png ,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.png 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ディレクトリ名変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名前を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変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ある場所で実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824920" y="6126120"/>
            <a:ext cx="3350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dcppt.pl 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33880" y="4495680"/>
            <a:ext cx="45205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mv &lt;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ディレクトリ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&gt; s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40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こんなことを聞かれるけど、そのまま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タイトル入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出力出力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756800" y="2514600"/>
            <a:ext cx="6246000" cy="1618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78360" y="4648320"/>
            <a:ext cx="5200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タイトルを記入して下さい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Title []: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スライドの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HTML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化支援ツール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dc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31720" y="5791320"/>
            <a:ext cx="6795000" cy="946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HTML Files ...0, 1, 2, 3, 4, 5, 6, 7, 8, 9, 10, 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Thumbnail File ...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mple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出来上が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隣に出来る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ub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index.htm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開くとこんな感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95400" y="3124080"/>
            <a:ext cx="65628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7:46:22Z</dcterms:created>
  <dc:creator>Morikawa Yasuhiro</dc:creator>
  <dc:description/>
  <dc:language>en-US</dc:language>
  <cp:lastModifiedBy>森川　靖大</cp:lastModifiedBy>
  <dcterms:modified xsi:type="dcterms:W3CDTF">2005-08-01T07:35:21Z</dcterms:modified>
  <cp:revision>59</cp:revision>
  <dc:subject/>
  <dc:title>PowerPoint スライドからの HTML 作成支援ツール epppt</dc:title>
</cp:coreProperties>
</file>