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77955"/>
        <c:axId val="13947316"/>
      </c:barChart>
      <c:catAx>
        <c:axId val="16077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47316"/>
        <c:crosses val="autoZero"/>
        <c:auto val="1"/>
        <c:lblAlgn val="ctr"/>
        <c:lblOffset val="100"/>
        <c:noMultiLvlLbl val="0"/>
      </c:catAx>
      <c:valAx>
        <c:axId val="13947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77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CAA-5B0B-4E09-8345-C09D1139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EC6-3B04-45D4-B37E-2FF3B795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54D-B1EF-403F-BA4D-611F5FC3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B67-D512-4954-994F-53DD5685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761-FD7D-41FE-929D-4B741F5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2AE-CDDE-42C5-8FB4-3FC6C15E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361-4BD4-4895-98D1-08DE26F7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CAD-E65B-43C2-A1CF-806DC02E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2B5-82AC-439F-8A96-0A40BC47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A7E-0518-40A3-A94F-7B6ECE4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DE2-12D8-43D7-91C0-6779988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CBF-757D-48DD-9557-84F24A4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AC8D3-AF9C-4F46-B54C-358FFC9B55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