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56003"/>
        <c:axId val="23742445"/>
      </c:barChart>
      <c:catAx>
        <c:axId val="22956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2445"/>
        <c:crosses val="autoZero"/>
        <c:auto val="1"/>
        <c:lblAlgn val="ctr"/>
        <c:lblOffset val="100"/>
        <c:noMultiLvlLbl val="0"/>
      </c:catAx>
      <c:valAx>
        <c:axId val="23742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6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6F2-22DA-4670-929E-03AA1F97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654-0295-4C70-8B8F-799525E9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039-26EC-4EB5-B8AC-255FD08B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12-B3AA-40F2-8B44-4E783914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2AD-9559-43FF-9B98-AD4F82F5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1CA-8E94-4A91-B051-37F91C6F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ABD-1BE4-4939-879A-328FF6F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2FB-31F7-4561-A839-8EB0C0D3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569-2E4F-4E72-A81E-EA2E6E1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868-D7D5-4241-B55E-D738786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1C1-4B0F-4175-99BE-316E90C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A3C-ED65-4890-AAED-0ECCD77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62DF5-EEB0-4535-9A00-608B89CB6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