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33252"/>
        <c:axId val="67566710"/>
      </c:barChart>
      <c:catAx>
        <c:axId val="4433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66710"/>
        <c:crosses val="autoZero"/>
        <c:auto val="1"/>
        <c:lblAlgn val="ctr"/>
        <c:lblOffset val="100"/>
        <c:noMultiLvlLbl val="0"/>
      </c:catAx>
      <c:valAx>
        <c:axId val="675667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3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721B-5ACD-4A1A-A12A-93AAAFB2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3BB-1BF4-4B43-81D0-ED2D18B4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209F-3381-4ACD-B818-E5C6AE55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D811-330B-4C7B-BEB0-112FC1E4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BAD-1202-41B2-AD2D-24D31113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F63-3455-4D6E-A645-12EC0148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F71B-4F7C-44B4-9688-37F6ACAB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A9F-EA15-418B-8995-C5C00286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414F-973C-4DE9-953A-3007FB5E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B33-3FDA-4A0C-B452-BA9E2402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BF2-204A-40B1-85E6-AC33EEF3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A25-6B21-4897-A5CA-F257FEFA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E5574-4E52-475E-959E-2D641DC1ED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