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65371"/>
        <c:axId val="21963599"/>
      </c:barChart>
      <c:catAx>
        <c:axId val="317653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63599"/>
        <c:crosses val="autoZero"/>
        <c:auto val="1"/>
        <c:lblAlgn val="ctr"/>
        <c:lblOffset val="100"/>
        <c:noMultiLvlLbl val="0"/>
      </c:catAx>
      <c:valAx>
        <c:axId val="21963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653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1E1-5D29-4DB4-84A5-56874D79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AA0-0314-4FF2-BF6C-96C055E5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245-FA53-4921-9D87-DC993F49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632-980A-4533-8B26-CE1C77A0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875-0307-47C8-9613-15C17939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4A8-8CB4-43AB-9BDC-AE471256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890-D06C-445A-A4C6-AA964AE8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078-F807-4725-9E42-BB37FADA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6C5-3D9D-42C7-9ACF-56E36AE5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268-4FCF-4F44-8537-CDF73230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2CAE-3651-4355-9482-34537AC3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4851-CE13-447B-A490-665CC229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5B264-5DD6-48F1-80E6-F011A1D223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