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9440921"/>
        <c:axId val="66403297"/>
      </c:barChart>
      <c:catAx>
        <c:axId val="6944092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403297"/>
        <c:crosses val="autoZero"/>
        <c:auto val="1"/>
        <c:lblAlgn val="ctr"/>
        <c:lblOffset val="100"/>
        <c:noMultiLvlLbl val="0"/>
      </c:catAx>
      <c:valAx>
        <c:axId val="6640329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44092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426EC-6373-4EF0-8B26-BA19E6D7F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37CC8-4EB0-4B93-9A56-52F13FD92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C8CB4-E146-42F5-AE11-0E6FCE604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05100-A482-421D-89F9-14F628473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6E6D1-E073-492B-B00E-CC72A99D6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83737-E2E6-447D-B985-98533B7F3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6DC2C-C7E1-4DA7-BB86-2EEF360D5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5ECE3-2516-4456-B867-E6DF11334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F0C1F-6B82-4A8E-86A1-8B62F9530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E1AB2-F275-4E57-B4A4-33C8AB8DC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3D04D-DA95-49AC-B5E2-B2140F86B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CEEC7-AFD7-41B2-8E6D-7F93C3E96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1B0549-9D06-4F0F-9D78-FC769C72ED2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