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4F7-A451-45B1-A949-981CE8DA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29B-F949-4309-917E-5CDBE576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862-9F5B-4D72-B43F-54E25460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010-EDB2-4748-941C-13791ED8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4EDE-A4E1-433A-AE2B-335712F1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F136-8075-4954-9276-37DC1DE0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62FC-6360-4E4C-A166-64623721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2112-B486-4F08-828C-8C83F39B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6679-EC39-4AA7-AAB0-A4E02473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2CAC-A708-424F-A9D0-4D1D71A5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4FC5-E3EA-41F6-8060-E975BB60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001B-6637-468F-98EC-3FD97EAC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7AE5-178F-4278-8D16-A968D3D6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C0D5-703A-4B49-B8F5-26C6CA88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3EAC-3884-4A45-B0B3-2A2FAA40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D227-8C0F-410D-AEA5-AC065C85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1F60-2BF4-498E-9E8C-06B2011B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D7A-546F-4112-BD62-E004487A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376-3147-4C05-A30E-24B85A80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2D1-D582-4738-8083-4A80C8A2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1849-3A2A-4C1A-B9F8-1579CFBE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9194-1CEA-40E7-B49D-38E9F30E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185-9563-4546-A490-0FD678FF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14CE-3EED-49CE-B1A0-43F436E4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8BDD-E472-43AF-A3B9-51AC844E2AD6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B2E5-B6F5-476D-8C26-550D8ACEAEEE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ep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Morikawa Yasuhi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4 EPnetFan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netFaN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9999ff"/>
                </a:solidFill>
                <a:latin typeface="Tahoma"/>
              </a:rPr>
              <a:t>Earth and Planetaly science network FaNclub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ep.sci.hokudai.ac.jp/~epnetfan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ep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ep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ep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ep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ep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ep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ep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ep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ep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E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netFaN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作成した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(?)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ep.sci.hokudai.ac.jp/~morikawa/perl/epppt/epppt.tar.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移動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パスを通してもいいけど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298600" y="4586400"/>
            <a:ext cx="50878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eppp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9760" y="5689440"/>
            <a:ext cx="65815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epppt/epppt.pl /usr/local/bi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ep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ep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ep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ep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ep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ep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ep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ep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epppt3.3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563868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ep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ep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ep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ep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 靖大</cp:lastModifiedBy>
  <dcterms:modified xsi:type="dcterms:W3CDTF">2004-11-06T15:56:21Z</dcterms:modified>
  <cp:revision>54</cp:revision>
  <dc:subject/>
  <dc:title>PowerPoint スライドからの HTML 作成支援ツール epppt</dc:title>
</cp:coreProperties>
</file>