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DCDB-DAD3-4D41-8EA8-1B0CB7CF9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DD06-7B72-479F-9B9B-AC737427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E899-EC15-43BC-90F9-A02335CBE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77C7-4E9C-43E3-9B3D-4FD6AA1D6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BEAC-B7E9-410A-9D7D-07CC5CDB0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1564-AE31-4D5E-BCAC-670C5313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6F7B-3D94-4458-BC51-E679A3D0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55AA-9A6B-4EA5-B077-E0454DAF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073C-39A8-42B2-8AC4-A5B5C10F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F4F5-AACF-400A-97B4-363F3D5B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182B-69B2-46C8-A4A8-4A900D68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9D69-F6B0-4653-9F2A-A2A4040B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E6C6-1438-483E-97A9-CD1C2DA1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267BA-7A4A-49BE-9160-2A3D563C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329E-74DA-4250-A58E-0FD3273E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0D8D-5FFC-4372-958C-8C60DAAF6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CB25-34B0-45C2-94CF-B827D85DF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9803-BF70-4B10-ADA5-688CF480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0CA5-3657-4DCC-B29F-02BD2A1D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1AAD-9F53-4A2F-AD65-EC0C1AE7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1716-D6E5-4EC9-BA0D-F3B1D929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8A89-5730-47ED-8E1C-71CBA97B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A6DB-C116-4D56-9BAC-A61EE33B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5A08-AB40-4C28-8725-BB558046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551E-C9A6-4BB2-844A-09975B7D53D2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5508-0D3B-4B6A-B4A7-2637D1FDB039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スライドの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br>
              <a:rPr sz="2800"/>
            </a:br>
            <a:r>
              <a:rPr b="0" lang="ja-JP" sz="5400" spc="-1" strike="noStrike">
                <a:solidFill>
                  <a:srgbClr val="333399"/>
                </a:solidFill>
                <a:latin typeface="Tahoma"/>
              </a:rPr>
              <a:t>eppp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2120" y="3885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Morikawa Yasuhi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pyright © 2004 EPnetFan. All rights reser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EPnetFaN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9999ff"/>
                </a:solidFill>
                <a:latin typeface="Tahoma"/>
              </a:rPr>
              <a:t>Earth and Planetaly science network FaNclub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http://www.ep.sci.hokudai.ac.jp/~epnetfan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謝辞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? or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参考資料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re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http://www.gfd-dennou.org/arch/cc-env/dcreal/SIGEN.ht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表示の画面のアイディアをパクら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hoto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http://www.ep.sci.hokudai.ac.jp/~totera/official/program/dcphoto/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表示部分のソースをパクら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epppt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とは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E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netFaN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にて作成した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(?)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wer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in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スライドの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化支援ツール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特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を誰もが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持ってない人も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じゃ無い人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見れるような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形式にす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入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インストー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入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tp://www.ep.sci.hokudai.ac.jp/~morikawa/perl/epppt/epppt.tar.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インストー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展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移動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パスを通してもいいけど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2298600" y="4586400"/>
            <a:ext cx="5087880" cy="520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800" spc="-1" strike="noStrike">
                <a:solidFill>
                  <a:srgbClr val="ffff00"/>
                </a:solidFill>
                <a:latin typeface="Lucida Console"/>
              </a:rPr>
              <a:t>tar xvfz epppt.tar.g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09760" y="5689440"/>
            <a:ext cx="6581520" cy="8254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#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cp epppt/epppt.pl /usr/local/bi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依存す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ool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群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P2H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(p2h.ex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(http://www.soi.wide.ad.jp/doc/mate/detail.html)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(http://www.soi.wide.ad.jp/soibeans/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OI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WIDE University, School of Internet)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http://www.soi.wide.ad.jp/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gt;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にて開発された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werpoint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スライドを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gif, jpeg, png,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また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htm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変換する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ツール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Windows98/2000/XP + Office2000/XP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動作確認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依存す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ool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群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0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epppt.p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version 5.6.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動作確認済み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ahoma"/>
                <a:ea typeface="ＭＳ ゴシック"/>
              </a:rPr>
              <a:t>※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ep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へのパス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なっているので、システムによっては変更すること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ディタで直接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ep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頭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!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変更する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code.p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日本語文字コード用ライブラ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2H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用い、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pt (PowerPoint)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ファイル から画像ファイルを生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用 –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640x480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～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800x6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用 –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00x150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～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40x18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タイトルを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title.tx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に書き込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目次を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menu.tx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に書き込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5334120"/>
            <a:ext cx="5333760" cy="131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001: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の 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epp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002: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epppt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とは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003: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入手 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インストー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                              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31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作成した資源を、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が動作するマシンへ移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用画像、サムネイル用画像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title.txt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menu.t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p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title.txt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menu.tx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等のあるディレクトリで実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824920" y="5257800"/>
            <a:ext cx="3350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epppt.pl 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Config.ep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編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文字コード 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$jp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タイル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$style_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文字色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$style_textcolo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、背景色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$style_bgcolor 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$thumbnail_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サムネイルの列の数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$thumbnail_col_num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などなど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4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p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出来上が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672640" y="2590920"/>
            <a:ext cx="3350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epppt.pl 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epppt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4876560" cy="28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7:46:22Z</dcterms:created>
  <dc:creator>Morikawa Yasuhiro</dc:creator>
  <dc:description/>
  <dc:language>en-US</dc:language>
  <cp:lastModifiedBy>Morikawa Yasuhiro</cp:lastModifiedBy>
  <dcterms:modified xsi:type="dcterms:W3CDTF">2004-02-03T10:29:16Z</dcterms:modified>
  <cp:revision>34</cp:revision>
  <dc:subject/>
  <dc:title>PowerPoint スライドからの HTML 作成支援ツール epppt</dc:title>
</cp:coreProperties>
</file>