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98256"/>
        <c:axId val="75229415"/>
      </c:barChart>
      <c:catAx>
        <c:axId val="14398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9415"/>
        <c:crosses val="autoZero"/>
        <c:auto val="1"/>
        <c:lblAlgn val="ctr"/>
        <c:lblOffset val="100"/>
        <c:noMultiLvlLbl val="0"/>
      </c:catAx>
      <c:valAx>
        <c:axId val="75229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98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48A-7599-4057-96C9-3EEAE424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DAF-8B6E-4EF1-815F-432BC6E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B2C-4C22-4F89-BA92-2BE6FE8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E91-082C-4EB8-9386-8CAFE5E8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D7F-7732-41DE-9722-7AD10FC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C57-A8BE-4491-93BF-1875232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323-7024-4A7C-ABDB-98224E1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451-71E7-4721-9384-B21CD1F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AF3-CCFF-4864-AE50-227A123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F7D-C42F-4703-A337-11B284A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A01-6B3A-42A7-8EE7-E86C667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1F8-280B-4446-803C-24BB7A0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159B5-F5EF-4C17-AC95-7F7FE5F927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