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83093"/>
        <c:axId val="44916919"/>
      </c:barChart>
      <c:catAx>
        <c:axId val="74683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6919"/>
        <c:crosses val="autoZero"/>
        <c:auto val="1"/>
        <c:lblAlgn val="ctr"/>
        <c:lblOffset val="100"/>
        <c:noMultiLvlLbl val="0"/>
      </c:catAx>
      <c:valAx>
        <c:axId val="44916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83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8DE-9805-4D37-A6E2-DF5654E3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016-C2AF-4409-80A3-430BFC2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572-AE47-4617-B949-C0A2A074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0A2-2F81-4410-8434-FE610814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4CF-E3F7-4C34-858D-230A7342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83E-C050-4A4B-B06D-54F6586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67F-6333-4C5D-A476-D30F2A9C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B57-AA5B-47F0-AAB1-7486AB8E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F80-CB0E-4230-943E-08C7386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46A-82C8-45D6-A46D-3890873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7A3-379E-433E-B3CE-4F57D89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295-3A2B-4380-80D0-37465E6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3747D-C6AB-4D31-904F-A6D1E37A1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